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98198-CEA5-47A8-9936-1C5EC3D1E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683FB-2BE6-40D4-BA36-9521CBDE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181D3-0069-43A1-B95A-B91385721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86155-BEB0-4465-9D80-C26E492B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072F-3DF5-45EA-A499-92718C17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2F12-D881-4988-86A9-311E4C8BE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34F31-CD6F-42F8-AB15-E0269051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5B9D-064D-47B8-BEA9-36BB98AD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7DF4-67B4-4387-8B0B-9C942901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F09E-BDCB-44E4-A54C-39AABCF7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0941-4A9E-49F4-BC82-46EC4E29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FF40B-B367-4B1A-B5DD-687802E6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2307-4919-4D4F-9A55-CF4F9840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EAF8-EDA2-416F-AADC-B3F69FDB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324E-09FA-45CE-A8F5-F26842BD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7CD6-7553-479C-84B4-1F714B64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3250-61B1-47F7-958C-A00969D5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3686F-75B8-44B1-AF94-4101310B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A5ACF-89C1-4531-9786-38706A85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052A3-91B6-4B92-A6CC-ECD18B87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11963-8F75-46B7-9B56-E54645E1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312BC-FABA-42CC-A6D5-8BD6AAC5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E3E73-851C-46AA-9A95-D66A89E6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1B9DE-E257-453C-A471-76F793F8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D6F9-247E-43C1-BA35-24896CD288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6B6E-A181-4E4A-A253-4D4CDED82F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Небольшое исследование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Заполните, на сколько процентов интеллект (100) состоит из усилий и способнос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еллект =__% усилий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Феномен выученной беспомощ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кошках, рыбах, мышах, крысах, тараканах и обезъянах примат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а человек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ы Дональда Хирото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и группы, вместо удара током неприятный шу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торая часть – возможно действова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/3 людей (и животных) продолжает пыта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висимости (случайность или тест на способност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окус контрол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переживания неблагоприятных событ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наблюдения беспомощных мод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сутствие самостоятельности в детст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казывается что ВБ формируется у ребенка уже к 8 годам и является относительно стабильной (Селигм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следование Г.Феррари – 71% новостей приводят к формированию В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ак ли все плохо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се дело в стиле объяснения  - что Вы говорите о неудачах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ессимистически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ическ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 депресс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7280" y="2017800"/>
          <a:ext cx="7767720" cy="3568680"/>
        </p:xfrm>
        <a:graphic>
          <a:graphicData uri="http://schemas.openxmlformats.org/drawingml/2006/table">
            <a:tbl>
              <a:tblPr/>
              <a:tblGrid>
                <a:gridCol w="2586240"/>
                <a:gridCol w="2590920"/>
                <a:gridCol w="259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стоя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конченный челов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ечно ворчиш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-настоящий придур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талан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сегда счас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никуда не годи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рем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до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 в плохом настро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орчишь, если я не уберу свою комна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о мой счастливый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тараюсь из всех си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уста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82600" y="2017800"/>
          <a:ext cx="7772400" cy="4170240"/>
        </p:xfrm>
        <a:graphic>
          <a:graphicData uri="http://schemas.openxmlformats.org/drawingml/2006/table">
            <a:tbl>
              <a:tblPr/>
              <a:tblGrid>
                <a:gridCol w="2587680"/>
                <a:gridCol w="2592360"/>
                <a:gridCol w="25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крет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фессор Х пристраст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ьна для н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 книга бесполез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оображаю в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на считала меня обаятельны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сведущ в нефтячных дел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ниверс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се преподаватели пристраст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ниги бесполез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чень сообрази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баятель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знает рын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240" cy="4250880"/>
        </p:xfrm>
        <a:graphic>
          <a:graphicData uri="http://schemas.openxmlformats.org/drawingml/2006/table">
            <a:tbl>
              <a:tblPr/>
              <a:tblGrid>
                <a:gridCol w="2739600"/>
                <a:gridCol w="2745000"/>
                <a:gridCol w="274464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утрен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 меня нет таланта к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человек ненадеж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умею пользоваться везени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мастер своего де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еш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 везет мне в карт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росла в бед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вез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терство моих товарищей по команд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Итог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 более успешны в профессиональном плане (исследование на материале 30 профессий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имеют более высокий уровень здоровья (даже если заболеют раком то живут дольш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ожно ли научиться оптимизму?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Результаты исследован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теллект = __% усилий +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и мотивации и интеллект (Керол Двек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ория зада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быльная те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итоге разная стратегия поведен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5e5ff"/>
                </a:solidFill>
                <a:latin typeface="Garamond"/>
              </a:rPr>
              <a:t>Психология мотивации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60280"/>
            <a:ext cx="537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 Вас могут быть все таланты мира, но без мощного побуждения они практически бесполез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.Стол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воспринимаемого контроля (Эллен Скиннер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Еще один эксперимент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70 год. Дом для престарелых. По договоренности с администрацией создаются два вида экспериментальных условий. В обоих случаях для этого проводится собрание группы и администрация сообщает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группа «Наша обязанность сделать все что в наших силах, чтобы вы могли гордиться пребываем здесь  и быть счастливы. Были вручены цветы, за которыми должны ухаживать медсестры, сказано по каким дням будут показывать фильмы и 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группа «Наша обязанность сделать все, но от вас тоже требуется и подчеркивалась возможность влиять на обстановку, чувствовать ответственность за свою жизнь, решать самим как проводить врем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оспринимаемый контро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щущение контроля – двигатель человека (например, описание поведения в концлагерях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ициат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юди, которые могут выбирать чувствуют себя более счастлив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ятельностный подх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еятель – Средство – Результ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силия, способности, удач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я о возможност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контролируем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стратег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Самоэффективность (Альберт 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уждение людей о своих способностях организовать и выполнить цепь действий, требуемой для достижения определенного результ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Люди избегают ситуаций с которыми по их убеждению не могут справи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Принимают участие в таких действиях в которых увере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Источники самоэффектив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стожения в выполнении деятельности (самоинструктирование, участие в моделировнии, воздействие извн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ужой опы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рбальное убеждение (самовнушение, увещевание и т.д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зиологическое и эмоциональное убеждение (релаксация, атрибутивный треннинг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мер. Эксперимент – Они могу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Целеполагание – важный фактор самоэффективности (А.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нкретные и яс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ксимальные (ближние = здесь и сейчас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удновыполнимыми (но достижимы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стоятельно определенн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степенными (прирастающи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самодетерминации Деси и Рай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утренняя (награды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ешняя (компетентность, автономност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1557360"/>
            <a:ext cx="8353440" cy="460836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ирамида Масло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ра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знание и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утвержд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3284640"/>
            <a:ext cx="309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4365720"/>
            <a:ext cx="50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5013360"/>
            <a:ext cx="62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5516640"/>
            <a:ext cx="720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Альдерфе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амовыраж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знание и самоутверж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773360"/>
            <a:ext cx="3311280" cy="576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292720" y="2420640"/>
            <a:ext cx="12952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2852640"/>
            <a:ext cx="1295280" cy="863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3789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627280" y="3860280"/>
            <a:ext cx="3960720" cy="792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4724280"/>
            <a:ext cx="3889440" cy="50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219640" y="5229000"/>
            <a:ext cx="12970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63960" y="213372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78280" y="4975200"/>
            <a:ext cx="262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aramond"/>
              </a:rPr>
              <a:t>СУЩЕСТВОВАНИ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46320" y="35733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0920" y="1341000"/>
            <a:ext cx="0" cy="431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20" y="1157400"/>
            <a:ext cx="37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довлетворение потреб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240" y="609300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цесс фру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773360"/>
            <a:ext cx="0" cy="46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Герцберг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911160" y="3313080"/>
            <a:ext cx="734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982440" y="4681440"/>
            <a:ext cx="727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4360" y="1589040"/>
            <a:ext cx="35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МОТИВИРУЮЩИЕ ФАК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0920" y="537372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ФАКТОРЫ 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4 дворняжки  от 37 до 48 см в холке и весом от 11,5 до 13 к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ри группы по восемь соба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ервой группе  - нажатие на панель носом отменяет удар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 второй группе они получали эл.ток когда его получала собака из первой групп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третьей группе собаки не получали ударов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рез 24 часа второй этап эксперимен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18900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328464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092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386064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492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72360" y="3357720"/>
            <a:ext cx="129528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16720" y="3500280"/>
            <a:ext cx="252360" cy="433440"/>
          </a:xfrm>
          <a:custGeom>
            <a:avLst/>
            <a:gdLst/>
            <a:ahLst/>
            <a:rect l="l" t="t" r="r" b="b"/>
            <a:pathLst>
              <a:path w="159" h="273">
                <a:moveTo>
                  <a:pt x="90" y="0"/>
                </a:moveTo>
                <a:lnTo>
                  <a:pt x="0" y="136"/>
                </a:lnTo>
                <a:lnTo>
                  <a:pt x="129" y="84"/>
                </a:lnTo>
                <a:lnTo>
                  <a:pt x="90" y="273"/>
                </a:lnTo>
                <a:lnTo>
                  <a:pt x="159" y="39"/>
                </a:lnTo>
                <a:lnTo>
                  <a:pt x="84" y="69"/>
                </a:lnTo>
                <a:lnTo>
                  <a:pt x="9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784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465300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каждым животным опыт повторялся 10 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Среднее время воздейств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1992240"/>
            <a:ext cx="734544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Количество животных которые не делали попыток спастись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1880" y="1636560"/>
            <a:ext cx="8159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4:07:15Z</dcterms:created>
  <dc:creator>Porshnev</dc:creator>
  <dc:description/>
  <dc:language>en-US</dc:language>
  <cp:lastModifiedBy>юлий</cp:lastModifiedBy>
  <dcterms:modified xsi:type="dcterms:W3CDTF">2009-11-17T11:39:28Z</dcterms:modified>
  <cp:revision>7</cp:revision>
  <dc:subject/>
  <dc:title>Психология мотив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10000000000010250600207f5200358026400</vt:lpwstr>
  </property>
</Properties>
</file>